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5.png" ContentType="image/png"/>
  <Override PartName="/ppt/media/image7.wmf" ContentType="image/x-wmf"/>
  <Override PartName="/ppt/media/GLASS.WAV" ContentType="audio/x-wav"/>
  <Override PartName="/ppt/media/RICOCHET.WAV" ContentType="audio/x-wav"/>
  <Override PartName="/ppt/media/image11.jpeg" ContentType="image/jpeg"/>
  <Override PartName="/ppt/media/EXPLODE.WAV" ContentType="audio/x-wav"/>
  <Override PartName="/ppt/media/image9.png" ContentType="image/png"/>
  <Override PartName="/ppt/media/CHIMES.WAV" ContentType="audio/x-wav"/>
  <Override PartName="/ppt/media/image1.wmf" ContentType="image/x-wmf"/>
  <Override PartName="/ppt/media/CARBRAKE.WAV" ContentType="audio/x-wav"/>
  <Override PartName="/ppt/media/WHOOSH.WAV" ContentType="audio/x-wav"/>
  <Override PartName="/ppt/media/image3.png" ContentType="image/png"/>
  <Override PartName="/ppt/media/DRIVEBY.WAV" ContentType="audio/x-wav"/>
  <Override PartName="/ppt/media/CLAP.WAV" ContentType="audio/x-wav"/>
  <Override PartName="/ppt/media/image2.png" ContentType="image/png"/>
  <Override PartName="/ppt/media/image4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8CB-3AC8-44AA-BFA5-E18A24C0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41D3-B9DE-4D41-8B5F-396B3A38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47A-D168-4882-B208-A663157A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4C0E-01E9-42B4-BF0A-F8B455E1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863B-F1F9-4C70-AA69-0C75543A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095C-993B-46A1-9354-BEDCDA62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9658-75B4-439A-BF66-53BBBBEE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7DEB-01F6-437E-B9F7-82163250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34A5-A81C-4F37-BD6A-91E0E2E6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D166-C873-4A2E-801E-6403267D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91E6-6A6B-44D2-9745-5A8AC4E9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871-F9F5-43AD-9866-8475635A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546B-6B2A-4888-95AD-8095D5D7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8EA2-6208-4313-8E28-79B3C333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065E-E1BD-4BD9-AF01-1218A1FB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F318-6949-4276-AF82-BC738610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CDA6-7385-485D-A857-07BBE016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5669-DBA1-45CF-8868-1C0DCD83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187E-4705-4583-8542-D3BDE190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C96-7C8D-483B-AB03-2651C2C0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E12A-FB5F-424A-8C15-8893EEB4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D4C9-F56B-4753-B93C-5AEC8FAC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B68A-9E16-48DB-B8B4-93A49568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354-97DD-464C-9505-A18ACF9C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B0B9-5290-497C-A38D-7F9938C789A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5DDD-9D25-48EF-BD7B-033FCEC398A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clipart.com/en/close-up?o=3908273&amp;a=a&amp;q=crash&amp;k_mode=all&amp;s=37&amp;e=48&amp;show=&amp;c=&amp;cid=&amp;findincat=&amp;g=&amp;cc=21:442:172:230:29&amp;page=4&amp;k_exc=&amp;pubid=&amp;color=&amp;b=k&amp;date=" TargetMode="External"/><Relationship Id="rId3" Type="http://schemas.openxmlformats.org/officeDocument/2006/relationships/image" Target="../media/image8.jpeg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80880" y="380880"/>
            <a:ext cx="8382240" cy="609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omentum and Colli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80880"/>
            <a:ext cx="8458200" cy="63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ff33"/>
                </a:solidFill>
                <a:uFillTx/>
                <a:latin typeface="Times New Roman"/>
              </a:rPr>
              <a:t>Elastic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Times New Roman"/>
              </a:rPr>
              <a:t>Inelas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billiards, Newton’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skateboarder jumps 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adle)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kateboard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objects bounce off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objects stick togeth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fter collisio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after colli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no E lost to heat or soun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involves a loss of K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does not cause damage              -causes 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FORMULA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FORMUL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m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+m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(m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+m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[m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+ m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]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[(m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+m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]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 rot="5400000">
            <a:off x="1229040" y="3105720"/>
            <a:ext cx="66787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TYPES OF COLLIS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split dir="in" orient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380880"/>
            <a:ext cx="80773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Problem 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- A baseball with a mass of 0.14 kg moves at 35 m/s. 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a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find “p” 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Find the v at which the baseball and a bowling ball with a mass of 7.26 kg would have the same “p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) m = 0.14 k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 = 35 m/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) m = 7.26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 = ?   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2743200"/>
            <a:ext cx="4952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m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(0.14)(35) =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4.9 kg m/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952880"/>
            <a:ext cx="5105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m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9 = 7.26 v      =  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0.67 m/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304920"/>
            <a:ext cx="8458200" cy="78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Problem B 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Glider A with a mass of 0.355 kg and a v of 0.095 m/s collides with Glider B of mass 0.710 kg moving in the same direction at 0.045 m/s.  After colliding, Glider A continues in the same direction with a v of 0.035 m/s.  What is Glider B’s v?  (is this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ELASTIC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INELASTIC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 0.355 k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0.095 m/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0.710 k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0.045 m/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0.035 m/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3581280"/>
            <a:ext cx="548640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ELASTIC, so use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(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(.355)(.095) +(.710)(.045) = (.355)(.035) +(.710)(v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457200"/>
            <a:ext cx="8229600" cy="65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Problem C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- A skateboard with mass 0.75 kg and a v of 1.0 m/s is jumped on by a person of mass 63.00 kg running at 2.0 m/s.  What is the v of the person on the skateboard after the “collision”? (Is this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ELASTIC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INELASTIC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0.75 k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1.0 m/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63.00 k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2.0 m/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3200400"/>
            <a:ext cx="556272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INELASTIC, so use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[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]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[(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]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(.75)(1.0) +(63.00)(2.0) = (.75+63.00)(v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304920"/>
            <a:ext cx="8610480" cy="74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Summary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Name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Symbol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Units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Formu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mentu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g</a:t>
            </a:r>
            <a:r>
              <a:rPr b="1" lang="en-US" sz="3200" spc="-1" strike="noStrike" baseline="22000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/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m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ul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g</a:t>
            </a:r>
            <a:r>
              <a:rPr b="1" lang="en-US" sz="4000" spc="-1" strike="noStrike" baseline="20000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/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Other Formulas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astic collis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m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+m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= (m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+m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elastic collis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[m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+ m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]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= [(m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+m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]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candidate’s campaign lost a lot of MOMENTUM when his political partner was impeach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fter those 5-in-a-row winning blackjack hands, Lefty Loosie really had MOMENT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though the receiver snapped a hamstring at the 3 yard line, his MOMENTUM carried him into the endzone for a touchdow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day the stock markets gained MOMENTUM when Microsoft and IBM forecasted large earn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457200"/>
            <a:ext cx="6705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Big Mo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mentu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3311640"/>
            <a:ext cx="3809880" cy="14540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Momentum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duct of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mas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elocit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ymbol: 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mula: 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mv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ts: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kg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m/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w of Conservation of Momentu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lost =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gain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tal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in a system remains the same if no external forces act on the system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mentum is therefore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conserv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af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ergy and Momentu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higher the roller coaster the more the PE, so the greater the KE that is possi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tota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E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tot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Impulse 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product of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Forc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ymbol: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   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mula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I =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F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ts:  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kg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longer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results in a smaller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733920" y="838080"/>
            <a:ext cx="1447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Impuls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pplications of Momentum &amp; Impul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3810240" cy="24955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3809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The longer you contact a ball when you’re catching it, the less the impact hu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Impulse = F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The greater the mass  of parts that fly off in a collision the safer the occupa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4495680"/>
            <a:ext cx="2214360" cy="2362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4920" y="4630680"/>
            <a:ext cx="27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irbags work because they increase your contact time with a surf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Everyday Applic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ou give a hammer momentum by swinging it harder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mmers have to be relatively heavy to get the job done (ie: can get more momentum!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457200"/>
            <a:ext cx="8077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8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Momentum &amp; Collis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4647960" cy="4267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1143000"/>
            <a:ext cx="701064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1828800"/>
            <a:ext cx="3809880" cy="46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a car wreck, each car part that flies off carries with it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momentum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 Each piece ha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mas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velocit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nd the total momentum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collision must equal the total momentum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ft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collis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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af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21:21:54Z</dcterms:created>
  <dc:creator>GCPS</dc:creator>
  <dc:description/>
  <dc:language>en-US</dc:language>
  <cp:lastModifiedBy>andreskim</cp:lastModifiedBy>
  <cp:lastPrinted>2001-11-29T11:58:42Z</cp:lastPrinted>
  <dcterms:modified xsi:type="dcterms:W3CDTF">2005-12-02T21:49:15Z</dcterms:modified>
  <cp:revision>79</cp:revision>
  <dc:subject/>
  <dc:title>Momentum And Collision</dc:title>
</cp:coreProperties>
</file>